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0FE-D736-4629-8DA1-75C5FC1B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FE0-9AC1-40E0-B7B9-31FD4D9D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796-16CE-41D7-BFC0-5617AB4D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644-2E21-4386-A7F6-6ECFC2EA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08A-CD3B-4414-AC09-2CF73F76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128A-7794-4ADC-9B8D-627AA74F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87D-399E-4BAA-B653-EDE4B4FE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E513-5E72-4DB6-BF27-02A245A0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A1E-75EF-4473-9195-43C54B55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0B8-C4DB-4835-94CF-14E5A370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6B82-7ED1-4624-9606-945F6126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8B24-EA14-4DA7-A211-928D5AB8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D0A0-C566-4323-AE92-2AACB2CC7D2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5" descr=""/>
          <p:cNvPicPr/>
          <p:nvPr/>
        </p:nvPicPr>
        <p:blipFill>
          <a:blip r:embed="rId3"/>
          <a:stretch/>
        </p:blipFill>
        <p:spPr>
          <a:xfrm>
            <a:off x="1395360" y="2992320"/>
            <a:ext cx="451800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298520" y="242568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1328760" y="3859200"/>
            <a:ext cx="51148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5881680" y="1628640"/>
            <a:ext cx="2665440" cy="240696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4"/>
          <a:stretch/>
        </p:blipFill>
        <p:spPr>
          <a:xfrm>
            <a:off x="1305000" y="534672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5"/>
          <a:stretch/>
        </p:blipFill>
        <p:spPr>
          <a:xfrm>
            <a:off x="1414440" y="351792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6"/>
          <a:stretch/>
        </p:blipFill>
        <p:spPr>
          <a:xfrm>
            <a:off x="1414440" y="304812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7"/>
          <a:stretch/>
        </p:blipFill>
        <p:spPr>
          <a:xfrm>
            <a:off x="1401840" y="258444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8"/>
          <a:stretch/>
        </p:blipFill>
        <p:spPr>
          <a:xfrm>
            <a:off x="1292400" y="495000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9"/>
          <a:stretch/>
        </p:blipFill>
        <p:spPr>
          <a:xfrm>
            <a:off x="1298520" y="401148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10"/>
          <a:stretch/>
        </p:blipFill>
        <p:spPr>
          <a:xfrm>
            <a:off x="1292400" y="449280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11"/>
          <a:stretch/>
        </p:blipFill>
        <p:spPr>
          <a:xfrm>
            <a:off x="1292400" y="2176560"/>
            <a:ext cx="822960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53:26Z</dcterms:created>
  <dc:creator/>
  <dc:description/>
  <dc:language>en-US</dc:language>
  <cp:lastModifiedBy/>
  <dcterms:modified xsi:type="dcterms:W3CDTF">2011-12-08T11:53:32Z</dcterms:modified>
  <cp:revision>1</cp:revision>
  <dc:subject/>
  <dc:title/>
</cp:coreProperties>
</file>